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073-F8E8-4D39-98C4-DC5D595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C97-F16C-4A39-87FC-905A9EE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D8D-72A0-4583-BC5B-7EA5A7E9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45F-A5D8-45FD-B003-838233F2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B75E-8B66-4A1A-9ED7-C03DD0CE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D6F6-40D8-46E4-A170-790B0CA0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D202-6D5D-4F0A-89F1-7A8FD3AE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A806-6513-4CA4-86B2-48D27BB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333-558A-4D54-9CC6-9AF9C7A7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2A49-785B-4890-9A70-C525764F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C66F-B0F4-4CFA-9606-9BD6C6D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8E4-3668-49B9-B1BA-DDE8D59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69F-8F25-4294-B9FA-B0B8188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4CE7-EAEF-4CF5-9138-89201FDF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09FA-4148-4592-8FFA-D3DA5BAD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0B30-75FD-4289-BD44-306D6334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2C4F-B2B7-441E-96A7-9203E9EC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B78-ACA4-4009-820E-D9BA8DE2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08C-0DE8-48C7-B27D-DC90A519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76C-961F-43E3-B744-C06587B8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EF1-6CC0-4839-BC38-66B1C603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0B1-1C68-4878-A970-723F8EB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034-D78C-45EA-8E07-4B01FB7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7ED-A036-4249-88D0-8ED286A5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3D5B-0F1A-4E82-885B-2ABFAB010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647-975B-47BA-BF26-F1489EDEC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istoricalvoices.org/1930s/crash/hoover/images/hoover1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-1800"/>
            <a:ext cx="7678800" cy="25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o you have any idea why the Great Depression occurred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F.  Financial Collapse: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anks &amp; Business’s Suffer*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ks close and have no insurance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de loans to specul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ositors money went into stocks – what does this mean? People lose their mone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that stayed open give less loans=Businesses go bank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k runs –people take out their money from the banks = collapse of ba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federal deficit and unemployment wksht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.  The top reasons why the Great Depression took place!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ason #1:  Overproduction*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many products, not enough people to buy the produ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ason #2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Uneven distribution of Incom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 The Ri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held 90% of the U.S. incom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The Po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held only 10% of the U.S.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5" descr="Filthy Rich"/>
          <p:cNvPicPr/>
          <p:nvPr/>
        </p:nvPicPr>
        <p:blipFill>
          <a:blip r:embed="rId1"/>
          <a:stretch/>
        </p:blipFill>
        <p:spPr>
          <a:xfrm>
            <a:off x="838080" y="4127400"/>
            <a:ext cx="3581640" cy="2730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poverty_10_06"/>
          <p:cNvPicPr/>
          <p:nvPr/>
        </p:nvPicPr>
        <p:blipFill>
          <a:blip r:embed="rId2"/>
          <a:stretch/>
        </p:blipFill>
        <p:spPr>
          <a:xfrm>
            <a:off x="5105520" y="1905120"/>
            <a:ext cx="30765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6264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Reason #3: Consumers have less money to spend &amp; have too much credit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ing the early 1920’s most bought on installment pl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s default on loans = who doesn’t get pa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j0283209"/>
          <p:cNvPicPr/>
          <p:nvPr/>
        </p:nvPicPr>
        <p:blipFill>
          <a:blip r:embed="rId1"/>
          <a:stretch/>
        </p:blipFill>
        <p:spPr>
          <a:xfrm>
            <a:off x="4800600" y="2286000"/>
            <a:ext cx="3886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ason #4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ouble with Industr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975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pple effect in many indus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2286000" y="-126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6" descr="BD06288_"/>
          <p:cNvPicPr/>
          <p:nvPr/>
        </p:nvPicPr>
        <p:blipFill>
          <a:blip r:embed="rId1"/>
          <a:stretch/>
        </p:blipFill>
        <p:spPr>
          <a:xfrm>
            <a:off x="4114800" y="3048120"/>
            <a:ext cx="1817640" cy="934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TN00561_"/>
          <p:cNvPicPr/>
          <p:nvPr/>
        </p:nvPicPr>
        <p:blipFill>
          <a:blip r:embed="rId2"/>
          <a:stretch/>
        </p:blipFill>
        <p:spPr>
          <a:xfrm>
            <a:off x="6019920" y="1600200"/>
            <a:ext cx="1363680" cy="1038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IN00561_"/>
          <p:cNvPicPr/>
          <p:nvPr/>
        </p:nvPicPr>
        <p:blipFill>
          <a:blip r:embed="rId3"/>
          <a:stretch/>
        </p:blipFill>
        <p:spPr>
          <a:xfrm>
            <a:off x="7772400" y="2590920"/>
            <a:ext cx="1162080" cy="144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TN00332_"/>
          <p:cNvPicPr/>
          <p:nvPr/>
        </p:nvPicPr>
        <p:blipFill>
          <a:blip r:embed="rId4"/>
          <a:stretch/>
        </p:blipFill>
        <p:spPr>
          <a:xfrm>
            <a:off x="6019920" y="4191120"/>
            <a:ext cx="1908000" cy="94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MP00640_"/>
          <p:cNvPicPr/>
          <p:nvPr/>
        </p:nvPicPr>
        <p:blipFill>
          <a:blip r:embed="rId5"/>
          <a:stretch/>
        </p:blipFill>
        <p:spPr>
          <a:xfrm>
            <a:off x="6248520" y="2819520"/>
            <a:ext cx="1284120" cy="1279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E01838_"/>
          <p:cNvPicPr/>
          <p:nvPr/>
        </p:nvPicPr>
        <p:blipFill>
          <a:blip r:embed="rId6"/>
          <a:stretch/>
        </p:blipFill>
        <p:spPr>
          <a:xfrm>
            <a:off x="2286000" y="4648320"/>
            <a:ext cx="1655640" cy="1587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PE01460_"/>
          <p:cNvPicPr/>
          <p:nvPr/>
        </p:nvPicPr>
        <p:blipFill>
          <a:blip r:embed="rId7"/>
          <a:stretch/>
        </p:blipFill>
        <p:spPr>
          <a:xfrm>
            <a:off x="914400" y="3352680"/>
            <a:ext cx="15177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eason #5:  Decrease in export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wley-Smoot Tariff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iff designed to protect American indus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y American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t backfired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s not able to sell their products to U.S. and U.S not able to sell their products to Europe = loss of income for countries =increased unemployment and decreased ex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e world wide decreased by 4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eason #6:  Federal Reserve’s Mistake*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est rate kept low = encouraged risky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uld have increased interest rates soo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ression Hits World Wid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Yesterday’s/Today’s Salar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920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5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d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2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/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 .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400" y="1758600"/>
            <a:ext cx="76788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hapter 11: 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5" name="Rectangle 66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400" y="1096560"/>
            <a:ext cx="76788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.1:  The Causes of the Great Depress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.  Election of 1928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bert Hoover (R) vs.  Alfred Smith [(D) and Catholic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in America are nearer to the final triumph over poverty than ever before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icken in every pot and two cars in every garag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 Wins by a landslide*- life was good in the 1920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hoover1_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752480"/>
            <a:ext cx="352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.  The Stock market Soa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w Jones Industrial Averag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tion that measure how well the stock market is doing; top 30 indus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Bull 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1920s*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 period of rising stock pri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s people to inv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ear marke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Dreams of becoming Rich via           </a:t>
            </a: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Stock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1.  *Specul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?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ying stocks on ___ that they increase in value; ignoring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more buying = increased value of stock but only on __?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-47520" y="2425680"/>
            <a:ext cx="22762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4752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7" descr="Stock Market Exchange"/>
          <p:cNvPicPr/>
          <p:nvPr/>
        </p:nvPicPr>
        <p:blipFill>
          <a:blip r:embed="rId1"/>
          <a:stretch/>
        </p:blipFill>
        <p:spPr>
          <a:xfrm>
            <a:off x="4572000" y="2203560"/>
            <a:ext cx="45720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.  *Buying on Marg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y a portion of a stock price as a down payment (25%) and t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borrow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t (75%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ck = $10,  you only have $2.50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do you 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do you se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374400"/>
            <a:ext cx="81630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E.  BLACK TUESDAY!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“The bottom fell out of the market!”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TOBER 29, 1929!!!!!!!!!!!!!!!!!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happen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many people sold their sto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*prices of stocks dropped = more people sell their sha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vings lost =$30 Billion/16 million sha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2-05T20:56:12Z</dcterms:modified>
  <cp:revision>12</cp:revision>
  <dc:subject/>
  <dc:title>PowerPoint Presentation</dc:title>
</cp:coreProperties>
</file>